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7D3F-1FBA-4126-B43E-0135436A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4DC-3B23-4554-A743-A56FA2AF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2678-936E-4068-87F2-CB638045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1AC-9375-4E49-9780-0C85E7DE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388-C5C8-4B7D-B40C-39588145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8F2E-A5F8-497A-B6D0-0DB5FAFF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028-182A-48BC-8521-46F0CBC5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B0CF-90D7-4CE4-982A-7F1ADAC2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6EB1-DFD6-475A-9C96-88AD05D3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088-6627-4922-91E1-6A1D83F1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BF1-59A7-44AD-9A03-39082B01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791C-3A96-4EB4-A47B-1546C10F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3BA7-EDE4-44D0-8443-DB6D8E2FB7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David Mar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ight: 184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ight: 168l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e: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cupation: Car Mecha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971800" y="1738440"/>
            <a:ext cx="209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3366720" y="2057400"/>
            <a:ext cx="199260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GS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Book Antiqua"/>
              </a:rPr>
              <a:t>Roger Th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26920" y="4652640"/>
            <a:ext cx="4032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ight: 183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ight: 183l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e: 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cupation: Ban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366720" y="2057400"/>
            <a:ext cx="199260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GS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Book Antiqua"/>
              </a:rPr>
              <a:t>Billy 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87280" y="4436640"/>
            <a:ext cx="3313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ight: 172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ight: 162 l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e: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cupation: Do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366720" y="2057400"/>
            <a:ext cx="199260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GS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Book Antiqua"/>
              </a:rPr>
              <a:t>Alan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95280" y="4221000"/>
            <a:ext cx="46083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ight: 16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ight: 182 l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e: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cupation: Bui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366720" y="2057400"/>
            <a:ext cx="199260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GS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Book Antiqua"/>
              </a:rPr>
              <a:t>Peter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79640" y="4797000"/>
            <a:ext cx="511344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ight: 18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ight: 196l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e: 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cupation: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66720" y="2057400"/>
            <a:ext cx="199260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GS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Book Antiqua"/>
              </a:rPr>
              <a:t>Sam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00360" y="4941720"/>
            <a:ext cx="36720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ight: 162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ight: 210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ge: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ccupation: Ba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366720" y="2057400"/>
            <a:ext cx="199260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GS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Book Antiqua"/>
              </a:rPr>
              <a:t>James Jen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0920" y="4797360"/>
            <a:ext cx="50421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Height:: 194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eight: 225l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ge: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ccupation: Shop kee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66720" y="2057400"/>
            <a:ext cx="199260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GS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Book Antiqua"/>
              </a:rPr>
              <a:t>Jack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95640" y="5013360"/>
            <a:ext cx="5256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ight: 152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ight: 190 l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e: 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cupation: B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366720" y="2057400"/>
            <a:ext cx="199260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GS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20:15:54Z</dcterms:created>
  <dc:creator>Administrator</dc:creator>
  <dc:description/>
  <dc:language>en-US</dc:language>
  <cp:lastModifiedBy>Mac User</cp:lastModifiedBy>
  <dcterms:modified xsi:type="dcterms:W3CDTF">2010-05-31T15:58:25Z</dcterms:modified>
  <cp:revision>6</cp:revision>
  <dc:subject/>
  <dc:title>David Cole</dc:title>
</cp:coreProperties>
</file>